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CEF3-A7AF-4ACA-B8FF-5F3C7A78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2620-39AE-40CC-9DF0-814881CC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82CF-13EB-4019-AB0E-9593504E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D3F2-FA51-4925-9A63-73F601C7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A464-6F12-4D1B-AC7B-42C733F9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39E4-E094-4E0E-8531-EA2A3D06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CBD5-58D2-4C7C-8B0D-CF48AE5F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5586-636E-4B23-B5FA-E018009F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FD9F-ED36-40F3-8E72-8E47BF1C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935A-7E6D-46BD-9D2E-BBB8A77B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70DD-9501-4414-BBD9-C09D4AC7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A697C-9563-44B2-B9D7-5CEB4DAB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C352-7B22-4287-BB87-86C12F52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0F32-4CD2-4D4F-8A32-F47D926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C547-4F61-4206-B96C-0F69E0D6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5030-D68F-4E10-B197-87AF3718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F065-7CF3-42EA-BED8-81599B4B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23E5E-CAC9-401D-BDDF-6B3B1814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F566-B802-4F3D-86F6-1A99B1AD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A555-A10C-4831-AE67-F766B268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B9BD-1241-4D40-AD19-F35EA51C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ED8B0-C411-4A56-980A-269F904D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37A4-9151-40A3-8ADB-15D106C4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1FFD-55CF-45C4-AAEA-00ED8E2F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FAC3-21F1-463E-B79A-F3EC8409C2E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2D0E-FC4E-499C-8D39-D4B84605E30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gersonfachiano@yahoo.com.br" TargetMode="External"/><Relationship Id="rId2" Type="http://schemas.openxmlformats.org/officeDocument/2006/relationships/hyperlink" Target="mailto:gersonfachiano@hotmail.com" TargetMode="External"/><Relationship Id="rId3" Type="http://schemas.openxmlformats.org/officeDocument/2006/relationships/hyperlink" Target="http://www.twitter.com/gersonfachiano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watch?v=nQxRObYdD0U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104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ae8ba"/>
                </a:solidFill>
                <a:latin typeface="Garamond"/>
              </a:rPr>
              <a:t>APRENDIZAGEM INTERATIVO-VIRTUAL: EXPERIMENO EM CONTEÚDOS DE LÍNGUA INGLESA 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f. STE Gerson Fachia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íodo: Notu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cola Estadual Senador Filinto Mul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inhema - 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RESULTADOS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Utilizando o PRAL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22" name="Content Placeholder 3" descr="S630002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24" name="Content Placeholder 3" descr="S630002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Prof. Rose Mazzaro acompanhando o aprendizado da turma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26" name="Content Placeholder 3" descr="S630002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28" name="Content Placeholder 3" descr="S630002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Utilização do Xtranormal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30" name="Content Placeholder 3" descr="S630004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32" name="Content Placeholder 3" descr="S630003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Os alunos escolhendo as personagens de seu vídeo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34" name="Content Placeholder 3" descr="S630004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Trocando idéias com os colegas para elaboração do vídeo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36" name="Content Placeholder 3" descr="S630004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Auxílio à galera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38" name="Content Placeholder 3" descr="S630004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Público-Alvo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e projeto está sendo executado com a professora de Língua Inglesa Roseli Mazzaro e aos discentes do terceiro ano do ensino médio notur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Alunos atentos à explicação da professora Rose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40" name="Content Placeholder 3" descr="S630004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Some New? Filme produzido pelos alunos.</a:t>
            </a:r>
            <a:br>
              <a:rPr sz="3200"/>
            </a:br>
            <a:r>
              <a:rPr b="0" lang="pt-BR" sz="2000" spc="-1" strike="noStrike">
                <a:solidFill>
                  <a:srgbClr val="bae8ba"/>
                </a:solidFill>
                <a:latin typeface="Garamond"/>
              </a:rPr>
              <a:t>http://www.youtube.com/watch?v=u_7fsT0r1m8</a:t>
            </a:r>
            <a:r>
              <a:rPr b="1" lang="pt-BR" sz="2000" spc="-1" strike="noStrike">
                <a:solidFill>
                  <a:srgbClr val="bae8ba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42" name="Some New.wmv" descr=""/>
          <p:cNvPicPr/>
          <p:nvPr/>
        </p:nvPicPr>
        <p:blipFill>
          <a:blip r:embed="rId1"/>
          <a:stretch/>
        </p:blipFill>
        <p:spPr>
          <a:xfrm>
            <a:off x="2286000" y="21477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Grato!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-mail: </a:t>
            </a:r>
            <a:r>
              <a:rPr b="0" lang="en-US" sz="2800" spc="-1" strike="noStrike" u="sng">
                <a:solidFill>
                  <a:srgbClr val="99ff33"/>
                </a:solidFill>
                <a:uFillTx/>
                <a:latin typeface="Garamond"/>
                <a:hlinkClick r:id="rId1"/>
              </a:rPr>
              <a:t>gersonfachiano@yahoo.com.b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SN: </a:t>
            </a:r>
            <a:r>
              <a:rPr b="0" lang="en-US" sz="2800" spc="-1" strike="noStrike" u="sng">
                <a:solidFill>
                  <a:srgbClr val="99ff33"/>
                </a:solidFill>
                <a:uFillTx/>
                <a:latin typeface="Garamond"/>
                <a:hlinkClick r:id="rId2"/>
              </a:rPr>
              <a:t>gersonfachiano@hotmail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tter: </a:t>
            </a:r>
            <a:r>
              <a:rPr b="0" lang="en-US" sz="2800" spc="-1" strike="noStrike" u="sng">
                <a:solidFill>
                  <a:srgbClr val="99ff33"/>
                </a:solidFill>
                <a:uFillTx/>
                <a:latin typeface="Garamond"/>
                <a:hlinkClick r:id="rId3"/>
              </a:rPr>
              <a:t>www.twitter.com/gersonfachia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OBJETIVOS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Este trabalho tem por objetivo capacitar docente e discientes para utilizarem ferramentas digitais no processo de ensino-aprendizagem de Língua Inglesa (LI) potencializando o ensino do mesmo através da utilização de plataformas digitais da WEB 2.0 (PRAL e XTranormal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JUSTIFICATIV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tindo da realidade de hoje, em que muitos professores não têm uma idéia exata de como se processa o aprendizado com a utilização das novas tecnologias disponíveis ao docente, este trabalho se destina a todo leitor interessado em conhecer uma das muitas faces dessa tecnologia aplicada à</a:t>
            </a: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educacional, ou seja, as várias possibilidades de como ensinar e aprender uma segunda língua empregando as T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FERRAMENTAS DIGITAIS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Foram escolhidas duas ferramentas digitais: a primeira é o 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PRAL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. O </a:t>
            </a:r>
            <a:r>
              <a:rPr b="0" i="1" lang="pt-BR" sz="2800" spc="-1" strike="noStrike">
                <a:solidFill>
                  <a:srgbClr val="ffffff"/>
                </a:solidFill>
                <a:latin typeface="Garamond"/>
              </a:rPr>
              <a:t>PRAL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é um portal de relacionamento educacional que possibilita estudantes e professores interagirem por meio de diversas ferramentas, possibilitando assim, uma maior interatividade com o grupo. A segunda ferramenta digital que será trabalhada é o 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XTranormal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que é uma nova ferramenta para a criação de animações 3D como dramas, comédias e o que mais você quiser que os atores faç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METODOLOGI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tap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rofessora de línguas passou por uma capacitação que abordou todas as formas de utilização do PRAL criando-se nesta ocasião a página da docente. Em seguida, houve a capacitação quanto aos recursos da ferramenta digital Xtranorm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304920" y="5335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ágina da Profa. Rose Mazzaro. Realizada na capacitaçã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C:\Users\user\Desktop\fotos PRAL\pral rose.jpg"/>
          <p:cNvPicPr/>
          <p:nvPr/>
        </p:nvPicPr>
        <p:blipFill>
          <a:blip r:embed="rId1"/>
          <a:stretch/>
        </p:blipFill>
        <p:spPr>
          <a:xfrm>
            <a:off x="237960" y="1066680"/>
            <a:ext cx="867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CRIANDO O FILME xtranormal"/>
          <p:cNvPicPr/>
          <p:nvPr/>
        </p:nvPicPr>
        <p:blipFill>
          <a:blip r:embed="rId1"/>
          <a:stretch/>
        </p:blipFill>
        <p:spPr>
          <a:xfrm>
            <a:off x="152280" y="1563840"/>
            <a:ext cx="8839440" cy="3998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28600" y="5475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azendo o filme com a professora Rose na capacitaçã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5867280"/>
            <a:ext cx="5715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99ff33"/>
                </a:solidFill>
                <a:uFillTx/>
                <a:latin typeface="Garamond"/>
                <a:hlinkClick r:id="rId2"/>
              </a:rPr>
              <a:t>http://www.youtube.com/watch?v=nQxRObYdD0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2</a:t>
            </a:r>
            <a:r>
              <a:rPr b="1" lang="en-US" sz="4400" spc="-1" strike="noStrike" baseline="30000">
                <a:solidFill>
                  <a:srgbClr val="bae8ba"/>
                </a:solidFill>
                <a:latin typeface="Garamond"/>
              </a:rPr>
              <a:t>a</a:t>
            </a: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 ETAP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resentação e cadastro dos discentes à plataforma PRAL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ação com os recursos do ambiente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esso aos conteúdos e as atividades postados pela professora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aboração de um roteiro aplicando o conteúdo aprendido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ação do filme utilizando o site Xtranormal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8:05:37Z</dcterms:created>
  <dc:creator>user</dc:creator>
  <dc:description/>
  <dc:language>en-US</dc:language>
  <cp:lastModifiedBy>MicroCarla</cp:lastModifiedBy>
  <dcterms:modified xsi:type="dcterms:W3CDTF">2009-08-13T20:34:34Z</dcterms:modified>
  <cp:revision>66</cp:revision>
  <dc:subject/>
  <dc:title>PROFESSOR FORMANDO PROFESSOR</dc:title>
</cp:coreProperties>
</file>